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27C8-D5D1-4A5B-AD3E-F8157F44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4808-4798-4EBC-AFD3-4A3DB54E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4623-0DEF-412F-A48B-DF222798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DDBA-D8E2-4FBC-A57A-68F3E049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B690-2826-4A0E-A88E-1C0F2B5B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9036-9713-456E-97BD-0083BFB6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CD00-293F-4295-BD89-5204259D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548A-D2C3-4212-81A9-85B4DC1F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A0BE-ECF1-4002-A1C9-645CB123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10E8-C159-4D79-9DA3-264EA09B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A6FF-260D-461E-A09A-1F42C7F4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9167-F6FF-4365-8F4F-3B8B30A0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C65B-9FD2-4806-B97B-AAD0F7D5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4C8A-04F4-4AE6-BE66-5BCB94D0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5C29-85C7-429B-BA0A-6606AC2C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5F55-C511-451C-9D12-2A8983C6F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7C3D-80C9-4FCD-AB3A-63219D04B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4FD5-D356-4094-BBE3-8CEDF3C3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060E-2821-4AED-9B01-E2172648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8441-7351-4C73-B4C7-CFB5190B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B125-E07D-4D0A-8C59-8FEE53DF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03AB-8CF5-4DEB-B0E7-A0992215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3C5C-833C-4F5D-A217-AE5B5A02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07EA-8213-40FB-A4E6-C446DEE5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B9D4-F20F-4BC7-8EEA-B1D08C73019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C521-455A-4680-9B5A-6B603633CAE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Домашняя работ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Ученицы 7 класс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Изгородиной Наталь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654(а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24000" y="1989000"/>
                <a:ext cx="864072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;</m:t>
                        </m:r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657(а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68360" y="2349360"/>
                <a:ext cx="820728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а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а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а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663(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г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826920" y="1773360"/>
                <a:ext cx="3348360" cy="399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р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р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р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р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01:02:12Z</dcterms:created>
  <dc:creator>№4</dc:creator>
  <dc:description/>
  <dc:language>en-US</dc:language>
  <cp:lastModifiedBy>№4</cp:lastModifiedBy>
  <dcterms:modified xsi:type="dcterms:W3CDTF">2006-12-13T01:58:50Z</dcterms:modified>
  <cp:revision>2</cp:revision>
  <dc:subject/>
  <dc:title>Домашняя рабо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